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C9E-50B8-4142-BDC3-5B0B63FE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5AAA-A56C-49C3-B17A-57EC228B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25D-1B20-4A17-96A4-AB1C799D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37E1-195F-4D4F-89EC-138D6271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D9F0-FDE9-4EDF-B498-1107E6B6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6A94-F3F2-4C34-8E5B-65ED27CA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2C21-D7C3-4405-A880-74DE7FE5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C08A-A973-41A3-8AF3-6C76DEA2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C3E-1FF0-4FB8-8BAF-5978B98C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6A29-EE8B-490E-9BDF-7A3C988C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C74C-56C5-416C-B60E-188BEDC8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5EF5-E733-433B-B861-7D8F4BBF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85C7-15BE-4BAC-88FB-1D23D047B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Laff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52280" y="1295280"/>
            <a:ext cx="7162560" cy="2819520"/>
          </a:xfrm>
          <a:prstGeom prst="ellipse">
            <a:avLst/>
          </a:prstGeom>
          <a:solidFill>
            <a:srgbClr val="ffffcc">
              <a:alpha val="57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438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568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cked l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863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200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92400"/>
            <a:ext cx="12189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25588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873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2787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7208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1780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26352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30924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35496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406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21016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2558880"/>
            <a:ext cx="1524240" cy="2210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4159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Eclipse 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25588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0160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47242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 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86400" y="6172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5715000"/>
            <a:ext cx="1371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8604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267080"/>
            <a:ext cx="3200400" cy="22100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35232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57150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0292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43434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3341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7913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8006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2666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5029200"/>
            <a:ext cx="12952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-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50496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121932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pt 14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y: 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6477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worked for 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286000"/>
            <a:ext cx="3429000" cy="3809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4724280"/>
            <a:ext cx="3429000" cy="21337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6172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0:22:52Z</dcterms:created>
  <dc:creator>Chris Laffra</dc:creator>
  <dc:description/>
  <dc:language>en-US</dc:language>
  <cp:lastModifiedBy>Chris Laffra</cp:lastModifiedBy>
  <dcterms:modified xsi:type="dcterms:W3CDTF">2004-10-05T14:16:18Z</dcterms:modified>
  <cp:revision>1</cp:revision>
  <dc:subject/>
  <dc:title>Universal IDE Generator</dc:title>
</cp:coreProperties>
</file>